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DF7-49DA-4B9B-9E7E-D19EB07E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AAF-CF69-4F8B-A518-E0B845BD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B21-BE4E-465A-A936-633989DC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5FE-3540-4DFF-936F-0639584C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03EE-0DAC-4BA2-96CE-88237319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7F5E-74AF-4E22-912C-6404068E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B399-765F-45A9-B9F3-4EEE2916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98BA-1C34-467C-B052-58562B37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93AB-CF73-4DE9-8C04-5AEB4E1B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9FED-C5E5-4114-8074-EE7C5B04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295D-C599-4B48-AB43-54B547A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15C-954D-4765-8057-76BEA35F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F111-97CC-4A3A-A46E-46B08903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A566-FC89-4370-A64B-13F57E0B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7847-E0A6-4830-BC76-04F2149B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5658-708D-432F-BA17-7FCFFA7C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1AB8-5597-4A79-88DE-9EE3FA4A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A39-4DA9-43C2-8E96-55818F43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55B-2869-441E-BDC9-DB0DDE07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EA0-9D8C-4D29-B184-8B74BF7D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B1A-3466-4497-8D79-DF508736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FF9-0EE3-4679-BCE5-11695DE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448-73B4-4370-89DF-76D918C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62C-9288-4E5D-9973-0E6FC1F6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E174-D5DC-4FD8-ABD3-F718EAA3245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A970-98BA-4860-A990-722EDD777F6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hew 28:20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5b5249"/>
                </a:solidFill>
                <a:latin typeface="Comic Sans MS"/>
              </a:rPr>
              <a:t>And surely I am with you always, to the very end of the age.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31:53Z</dcterms:created>
  <dc:creator>ijones</dc:creator>
  <dc:description/>
  <dc:language>en-US</dc:language>
  <cp:lastModifiedBy>ijones</cp:lastModifiedBy>
  <dcterms:modified xsi:type="dcterms:W3CDTF">2006-12-27T12:04:24Z</dcterms:modified>
  <cp:revision>5</cp:revision>
  <dc:subject/>
  <dc:title>Philippians 1:6</dc:title>
</cp:coreProperties>
</file>