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F6A3-86C4-44DD-9FDF-757B635A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6BEE-DE22-47C4-BF58-3B79F2F5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E8D-7CDD-4E83-ADB0-E5292AB1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5470-D078-4019-B041-2A5FEFCF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1A88-7C47-4D7F-9916-B4B4FD87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CCC5-FEC4-4E6E-A4EF-D220EE91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04FD-7A45-4010-AEF2-6A04E735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9F2F-697A-44FA-88C1-FD9AC485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B831-3105-49EA-A08B-03D434F2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251A-970F-453A-B8D5-D4001354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D883-B6AA-404D-A6BB-B8A131C6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0BA4-104C-48A0-A115-DB7F958D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B162-52A4-4A3D-A871-43B92880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5E13-A135-444C-894B-4ED4559A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654E-3269-42F6-ADD2-2A2E67F8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816C-30E4-4239-9109-C2053EA5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CFF4-408B-4128-B358-49CECE12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4E6F-E9B4-495F-BF70-E4B0F75E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39C6-D13D-4921-9E27-19304184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82D7-5988-43D6-A242-A51611FA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9D8C-0F49-4A2B-9EB1-868314FC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D838-E353-4264-A27E-D523B921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D0DC-E71D-40FA-8ACF-BB230C2C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22B9-361B-477D-AFD5-FA268987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A50D-5929-4A28-83D8-7D148CCF00A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6139-4BB2-4035-83AB-EBA07A164D5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ebrews 13:5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Comic Sans MS"/>
              </a:rPr>
              <a:t>“</a:t>
            </a:r>
            <a:r>
              <a:rPr b="0" lang="en-US" sz="4800" spc="-1" strike="noStrike">
                <a:solidFill>
                  <a:srgbClr val="5b5249"/>
                </a:solidFill>
                <a:latin typeface="Comic Sans MS"/>
              </a:rPr>
              <a:t>Never will I leave you; never will I forsake you.”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11:31:53Z</dcterms:created>
  <dc:creator>ijones</dc:creator>
  <dc:description/>
  <dc:language>en-US</dc:language>
  <cp:lastModifiedBy>ijones</cp:lastModifiedBy>
  <dcterms:modified xsi:type="dcterms:W3CDTF">2006-12-27T12:03:46Z</dcterms:modified>
  <cp:revision>7</cp:revision>
  <dc:subject/>
  <dc:title>Philippians 1:6</dc:title>
</cp:coreProperties>
</file>