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F5A-11B6-4407-8325-A383DDFB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BAC-8CCC-4C21-9FF1-CE4EE262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A55D-1D0E-4189-BA62-EB600BBB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B6A-7D43-42A5-8796-96BB8069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D4B8-054B-46D5-A97F-C069013C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1D34-30ED-436C-BBC0-944FC06E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F059-4689-4782-B400-5B68F95A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451B-94C4-48A5-B95E-39F2A3A7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B320-0F7C-4826-8769-BA88EDE6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B055-38E3-444E-B088-223B1F5B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ABBB-EB8E-4483-96C3-9997C396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A20A-5C8C-4095-A282-275A350B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D550-BAB6-4AE5-83A3-07E3131A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B42E-43C9-4D2F-A25E-0BDBCF80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19F2-D09B-40E3-98AC-476A508C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6989-753C-4E2C-AFE2-CBF23702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3F0D-43A4-49D9-BEF9-C83BE5C9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0AA9-2509-43D0-805D-5D4FDE18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E06-DDCE-446F-B567-670FB792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159C-842A-42B6-BCB9-C2407CFA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E89-D0AD-4E83-9627-52ED19D5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9187-F090-47BD-9921-C93B1F11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162-93ED-49B9-ABE7-23C064FB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723-84FA-4628-8F82-10D100CE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C9E6-AE82-4B48-A0DD-FEC56020C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5010-AF5C-49DF-912E-96584D0D3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Philipians.ppt" TargetMode="External"/><Relationship Id="rId2" Type="http://schemas.openxmlformats.org/officeDocument/2006/relationships/hyperlink" Target="file:///1%20Thess.ppt" TargetMode="External"/><Relationship Id="rId3" Type="http://schemas.openxmlformats.org/officeDocument/2006/relationships/hyperlink" Target="file:///2%20Thess.ppt" TargetMode="External"/><Relationship Id="rId4" Type="http://schemas.openxmlformats.org/officeDocument/2006/relationships/hyperlink" Target="file:///Matt.ppt" TargetMode="External"/><Relationship Id="rId5" Type="http://schemas.openxmlformats.org/officeDocument/2006/relationships/hyperlink" Target="file:///1%20Cor.ppt" TargetMode="External"/><Relationship Id="rId6" Type="http://schemas.openxmlformats.org/officeDocument/2006/relationships/hyperlink" Target="file:///Hebrews.ppt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DT.exe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od’s Faithfulnes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ke 2:21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od’s Faithfulnes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blical faith is blind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2767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1752480"/>
            <a:ext cx="6477120" cy="58140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blical faith is NEVER blind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2971800"/>
            <a:ext cx="716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d s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basis of what I have already done, trust me when I say what I will do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ome of God’s Promis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Philippians 1: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1 Thessalonians 5: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2 Thessalonians 3: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Matthew 28: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1 Corinthians 1: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6"/>
              </a:rPr>
              <a:t>Hebrews 13: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New Yea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3048120"/>
            <a:ext cx="77724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0066"/>
                </a:solidFill>
                <a:uFillTx/>
                <a:latin typeface="Comic Sans MS"/>
                <a:hlinkClick r:id="rId1"/>
              </a:rPr>
              <a:t>200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uke’s Gosp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ays to approach 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n historical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 spiritual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t is not a bi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es Luke include this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it’s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it can teach us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Wider Pictur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h Luke and Matthew place the birth of Jesus in the reign of Herod the Gr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o died in 4 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uke 2:2 The Census whilst Qurinius was the governor of Sy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~7-5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Visit of the Ma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uke 2:3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y and Joseph Temporarily living in Bethle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p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maps-palestine-33AD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4077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Jesus Presented in the Temple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m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22-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pu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odus 13 – First born 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iticus 12 – Ceremonially uncl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ar old lamb or 2 pigeons or do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eon (v25-35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eous and Dev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waiting the consolation of Isra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oly spirit was upon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d’s 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ises God (v29-3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hesises (v33-3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na (v26-38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het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hesises over Je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o What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ect attention to Jewish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Anna and Simeon give prophesy about Jesus and what he will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d’s faithful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l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od’s Faithfulnes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d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lan for Sal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d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mises to send a Messi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years of si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d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mise to Sim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d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cern for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eon was an old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1:29:22Z</dcterms:created>
  <dc:creator>ijones</dc:creator>
  <dc:description/>
  <dc:language>en-US</dc:language>
  <cp:lastModifiedBy>Ian Jones</cp:lastModifiedBy>
  <dcterms:modified xsi:type="dcterms:W3CDTF">2006-12-29T21:06:49Z</dcterms:modified>
  <cp:revision>7</cp:revision>
  <dc:subject/>
  <dc:title>God’s Faithfulness</dc:title>
</cp:coreProperties>
</file>