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2C3A-6F19-40D5-9938-1F81EE963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65BC-EFE8-454A-880D-607683616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A42C-CCC8-4860-9968-C64FB488A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E88E-4E0E-495D-8A11-EB6A2E8A6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BB957-C8D7-4683-AD72-C22D0FA2F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8336A-BBEE-4E27-967A-CBD3CC9C2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733B6-D9F5-4883-8713-D85E08979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C69AE-B531-48A9-A990-E8988C70E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6F145-0BC4-4AF4-BD8D-B5C99499A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1AF17-4305-4AA5-9DF7-FC54A0EBD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60364-1651-47F4-BCF1-321F633EC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D48E-3DFB-4E96-ADB8-CC199D48D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90F56-7FAB-4F0E-BAAB-38201930B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AA81C-776B-44C9-AB4E-E862CC3BB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EE472-EB8B-4897-8AD1-47C1CB650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D80A6-2719-4756-AE43-37E5AB9D1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E83BD-88BF-4057-822D-39AE45D16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F072-E6BB-42B7-8D1C-9716BD740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27C8-3C82-46FF-94A7-D820895F6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52C9-983F-4C4E-B2E0-BF06EA219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0000-165D-45A1-BA33-6DB6FDC64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845B-C3A9-496E-AA1D-177B99062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14BC-CFCF-4F23-AAC7-F723EDD7A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37FF-CC97-49FE-99C9-CA3199843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C9CFD-EE8F-4118-BC6D-13056A912522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DA0F1-E2B8-415D-A6DD-F85A4F77BF60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1 Thessalonians 5:24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259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b5249"/>
                </a:solidFill>
                <a:latin typeface="Comic Sans MS"/>
              </a:rPr>
              <a:t>“</a:t>
            </a:r>
            <a:r>
              <a:rPr b="0" lang="en-US" sz="5400" spc="-1" strike="noStrike">
                <a:solidFill>
                  <a:srgbClr val="5b5249"/>
                </a:solidFill>
                <a:latin typeface="Comic Sans MS"/>
              </a:rPr>
              <a:t>The one who calls you is faithful and he will do it”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7T11:31:53Z</dcterms:created>
  <dc:creator>ijones</dc:creator>
  <dc:description/>
  <dc:language>en-US</dc:language>
  <cp:lastModifiedBy>ijones</cp:lastModifiedBy>
  <dcterms:modified xsi:type="dcterms:W3CDTF">2006-12-27T12:02:25Z</dcterms:modified>
  <cp:revision>3</cp:revision>
  <dc:subject/>
  <dc:title>Philippians 1:6</dc:title>
</cp:coreProperties>
</file>