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2AC-1CFC-4AF7-B387-09E28B23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CCE-2E53-4577-8FBB-B71C0BC4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D4D-4C65-4A9D-B254-31C41D06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01D-4845-4C3B-A7D6-713210B4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D9A7-5C27-4A04-B2F9-CC1FC22A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1C0-52CF-4024-8C7E-71EA3344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04E5-F97B-4183-9190-6F0C0718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98F9-F267-448E-AC1A-7634E23C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956A-329D-4D5C-95E8-C0B5DC7D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96A4-3849-47FD-B96C-51454DDA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F22C-4C02-4602-A123-054C76B9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417-1907-4020-B682-A3422656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DD31-B513-4B0F-8281-06699355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ED09-B954-4FE6-8934-6FF169C1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6BDB-091F-4B5B-805C-6E05DB45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DFB2-5311-49E2-8836-43CC2C4D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CCD9-E32D-4F70-B792-E9FD5820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78A-1C88-4EBE-B5AD-92677AE8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57E-0D5D-41C5-82A6-593DE095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37E-8ACC-46D8-A520-34C40007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522-143B-4F5B-B504-93A33277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6E7-2E77-4BEB-921D-12A38488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291-A7FA-45A2-A907-10E50689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B76-B563-4F60-90F0-7FB8DB9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5933-7B55-42F9-AC29-E823CFDB035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7A2D-5437-483B-B134-01E290C67E1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 Corinthians 1:8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5b5249"/>
                </a:solidFill>
                <a:latin typeface="Comic Sans MS"/>
              </a:rPr>
              <a:t>He will keep you strong to the end, so that you will be blameless on the day of our Lord Jesus Christ.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31:53Z</dcterms:created>
  <dc:creator>ijones</dc:creator>
  <dc:description/>
  <dc:language>en-US</dc:language>
  <cp:lastModifiedBy>ijones</cp:lastModifiedBy>
  <dcterms:modified xsi:type="dcterms:W3CDTF">2006-12-27T12:01:36Z</dcterms:modified>
  <cp:revision>6</cp:revision>
  <dc:subject/>
  <dc:title>Philippians 1:6</dc:title>
</cp:coreProperties>
</file>