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E5E-FD0C-40E4-A2EE-DCD0922B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44E-A59C-4DBE-80BC-AA04E219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68A7-F3B9-497E-AA02-C49840BE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49A3-49D0-4CFF-9F15-B44BF3D3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8B39-8977-4213-9D15-706425D2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CB95-6126-437B-8406-88E27C3B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DA1F-BD7B-4AD3-B815-1BF1C372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34A0-3D7A-4612-8AF2-CBCAF6A9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4202-0C1C-46E3-9AA8-BA373597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C479-BE88-40EE-B37C-FE677C84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71F5-25B2-4F5B-B358-E2E17E01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DB0-F4D9-47E3-AA33-F036EC56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60EF-CE65-4E53-A424-C4AD2F17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29B9-769A-4AD7-9E47-0C7AAF12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5529-471D-409E-BD36-77D0DD10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80D6-610A-472D-91B3-068DFE47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8AB3-F7FA-4C3B-BAA9-B23B0C07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1E5-13B0-4937-8A2D-18C1B23B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9D1-1F4C-4196-ABF8-1DBAEF0D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A3B0-A3AD-4370-A446-093E574A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E50-6F38-4D68-AFE4-7EA5E9C8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729-4F4E-463C-B194-4A6DE7DD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A22-489D-4DAC-8B12-11EA02FF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2C0-AA1A-48FA-86CF-973629C3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0B53-888F-4B1C-AAE5-617EA308E5B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F282-EAAF-426B-958F-540797C3232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hilippians 1:6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Comic Sans MS"/>
              </a:rPr>
              <a:t>“…</a:t>
            </a:r>
            <a:r>
              <a:rPr b="0" lang="en-US" sz="4800" spc="-1" strike="noStrike">
                <a:solidFill>
                  <a:srgbClr val="5b5249"/>
                </a:solidFill>
                <a:latin typeface="Comic Sans MS"/>
              </a:rPr>
              <a:t>he who began a good work in you will carry it on to completion…”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1:31:53Z</dcterms:created>
  <dc:creator>ijones</dc:creator>
  <dc:description/>
  <dc:language>en-US</dc:language>
  <cp:lastModifiedBy>ijones</cp:lastModifiedBy>
  <dcterms:modified xsi:type="dcterms:W3CDTF">2006-12-27T12:00:59Z</dcterms:modified>
  <cp:revision>2</cp:revision>
  <dc:subject/>
  <dc:title>Philippians 1:6</dc:title>
</cp:coreProperties>
</file>