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CBF-40F1-42A2-AD01-4D182BD0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6B2-994C-482F-A724-91848E2C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BD5-3A9B-4810-8D39-3B542344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3D8-A650-4B09-9ED3-CDF6920A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1A98-3739-4668-B4DE-A4D62D7E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964D-CB78-4DFE-B61B-8D37C1B8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4FB0-A08B-4799-8C87-BEE438BC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5D6F-91A9-487A-A15C-672513C0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0381-31C1-41C9-98B0-E3494B76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C783-C73A-4FBD-A513-CAA8FA21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6EF9-1946-4C3C-8A4E-99D94EA9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CD3-A185-40C5-8C23-58D884B3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F2FD-1836-4060-9487-86B0050F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B74E-4335-43A6-A9BA-E0ECCBB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BD6F-A471-491E-A135-769B121A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7B0F-CD24-4CE7-B6D9-CFE8E138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0A89-AE6B-4D69-8184-141EFE27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AF5-8AFD-424B-B618-9041DE19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A47-A641-4DA9-B7DF-668558D5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BD0-9FDD-49E7-BC70-9C535596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99A-E323-4133-9CBF-007553CF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763-DEAD-46F5-BBF1-E883B49E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471-2225-4679-A71E-87F8A1E3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249-7CCB-45CB-A140-E15AAA13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666D-5E4E-4812-B66D-BCB1AD7AFD3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EF92-3C6C-4727-BEA2-13C35189339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 Thessalonians 3: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5b5249"/>
                </a:solidFill>
                <a:latin typeface="Comic Sans MS"/>
              </a:rPr>
              <a:t>But the Lord is faithful,  and he will strengthen   and protect you from the evil one.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1:31:53Z</dcterms:created>
  <dc:creator>ijones</dc:creator>
  <dc:description/>
  <dc:language>en-US</dc:language>
  <cp:lastModifiedBy>ijones</cp:lastModifiedBy>
  <dcterms:modified xsi:type="dcterms:W3CDTF">2006-12-27T12:03:15Z</dcterms:modified>
  <cp:revision>4</cp:revision>
  <dc:subject/>
  <dc:title>Philippians 1:6</dc:title>
</cp:coreProperties>
</file>